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799763" cy="12239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860-B141-4252-AD80-F8C5426F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440" y="2857680"/>
            <a:ext cx="971856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440" y="7076520"/>
            <a:ext cx="971856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110-0176-4509-BDCD-8CD47D4D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440" y="285768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1680" y="285768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440" y="707652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1680" y="707652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4FF-845E-4FAA-8A6E-16BAC467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440" y="2857680"/>
            <a:ext cx="312912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7520" y="2857680"/>
            <a:ext cx="312912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240" y="2857680"/>
            <a:ext cx="312912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440" y="7076520"/>
            <a:ext cx="312912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7520" y="7076520"/>
            <a:ext cx="312912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240" y="7076520"/>
            <a:ext cx="312912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1A9-D7A5-47AA-A765-70C6D269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440" y="2857680"/>
            <a:ext cx="9718560" cy="80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1CB-E08C-47BA-B8BB-8BC1F8FB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440" y="2857680"/>
            <a:ext cx="9718560" cy="80769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89A-520B-47CF-9981-0DC58070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440" y="2857680"/>
            <a:ext cx="4742640" cy="80769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1680" y="2857680"/>
            <a:ext cx="4742640" cy="80769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7BC-ECD3-46A5-B572-DC5DF43B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9B1-C734-4DAC-8504-0D6C4BA7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440" y="490320"/>
            <a:ext cx="9718560" cy="94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2F2-DC3F-4516-9987-CD8E327C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440" y="285768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1680" y="2857680"/>
            <a:ext cx="4742640" cy="80769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440" y="707652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F5B-F72F-4368-A15D-6E0FF08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440" y="2857680"/>
            <a:ext cx="4742640" cy="80769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1680" y="285768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1680" y="707652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D3A-2A25-4FC6-8237-8CE0585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440" y="285768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1680" y="2857680"/>
            <a:ext cx="474264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440" y="7076520"/>
            <a:ext cx="9718560" cy="38523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048-31A3-4F30-B60C-5E17EE3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440" y="490320"/>
            <a:ext cx="9718560" cy="20415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440" y="2857680"/>
            <a:ext cx="9718560" cy="80769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5800" indent="-41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477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389240" indent="-27792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944720" indent="-2779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500200" indent="-2775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500200" indent="-2775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500200" indent="-2775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11347200"/>
            <a:ext cx="2519280" cy="649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11347200"/>
            <a:ext cx="3419280" cy="649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11347200"/>
            <a:ext cx="2519280" cy="649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47BC-0D77-4A7C-83C1-5C34B1D17FE3}" type="slidenum">
              <a:rPr b="0" lang="en-US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560" y="2478240"/>
            <a:ext cx="7429320" cy="39211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20360" y="6935760"/>
            <a:ext cx="7559640" cy="31291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295200" y="1547640"/>
            <a:ext cx="9220320" cy="778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Путешествие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рану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рожных знаков»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1773360" y="7088040"/>
            <a:ext cx="7559640" cy="31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t">
            <a:norm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1317600" y="2225520"/>
            <a:ext cx="6118200" cy="380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"/>
          <p:cNvPicPr/>
          <p:nvPr/>
        </p:nvPicPr>
        <p:blipFill>
          <a:blip r:embed="rId1"/>
          <a:srcRect l="3201" t="17962" r="6298" b="18239"/>
          <a:stretch/>
        </p:blipFill>
        <p:spPr>
          <a:xfrm>
            <a:off x="0" y="2309760"/>
            <a:ext cx="10801440" cy="7162920"/>
          </a:xfrm>
          <a:prstGeom prst="rect">
            <a:avLst/>
          </a:prstGeom>
          <a:ln w="0">
            <a:noFill/>
          </a:ln>
        </p:spPr>
      </p:pic>
      <p:sp>
        <p:nvSpPr>
          <p:cNvPr id="64" name="WordArt 10"/>
          <p:cNvSpPr txBox="1"/>
          <p:nvPr/>
        </p:nvSpPr>
        <p:spPr>
          <a:xfrm>
            <a:off x="371520" y="404640"/>
            <a:ext cx="10058400" cy="159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ный транспорт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rcRect l="0" t="13522" r="0" b="0"/>
          <a:stretch/>
        </p:blipFill>
        <p:spPr>
          <a:xfrm>
            <a:off x="0" y="2462040"/>
            <a:ext cx="10801440" cy="8915400"/>
          </a:xfrm>
          <a:prstGeom prst="rect">
            <a:avLst/>
          </a:prstGeom>
          <a:ln w="0">
            <a:noFill/>
          </a:ln>
        </p:spPr>
      </p:pic>
      <p:sp>
        <p:nvSpPr>
          <p:cNvPr id="66" name="WordArt 10"/>
          <p:cNvSpPr txBox="1"/>
          <p:nvPr/>
        </p:nvSpPr>
        <p:spPr>
          <a:xfrm>
            <a:off x="371520" y="404640"/>
            <a:ext cx="10058400" cy="159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емный транспорт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rcRect l="0" t="3748" r="748" b="0"/>
          <a:stretch/>
        </p:blipFill>
        <p:spPr>
          <a:xfrm>
            <a:off x="0" y="2081160"/>
            <a:ext cx="10801440" cy="960120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371520" y="404640"/>
            <a:ext cx="10058400" cy="159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душный транспорт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6"/>
          <p:cNvSpPr txBox="1"/>
          <p:nvPr/>
        </p:nvSpPr>
        <p:spPr>
          <a:xfrm>
            <a:off x="676440" y="480960"/>
            <a:ext cx="6675120" cy="556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анов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Отвечалкино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6"/>
          <p:cNvSpPr txBox="1"/>
          <p:nvPr/>
        </p:nvSpPr>
        <p:spPr>
          <a:xfrm>
            <a:off x="828720" y="3044880"/>
            <a:ext cx="6522840" cy="30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анов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Собиралкино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828720" y="3044880"/>
            <a:ext cx="6522840" cy="30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анов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Размышлялкино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0"/>
          <p:cNvSpPr txBox="1"/>
          <p:nvPr/>
        </p:nvSpPr>
        <p:spPr>
          <a:xfrm>
            <a:off x="828720" y="2386080"/>
            <a:ext cx="6321240" cy="45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ановк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Мастерилкино»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Дет. сад\7iaLjgbKT.gif"/>
          <p:cNvPicPr/>
          <p:nvPr/>
        </p:nvPicPr>
        <p:blipFill>
          <a:blip r:embed="rId1"/>
          <a:stretch/>
        </p:blipFill>
        <p:spPr>
          <a:xfrm>
            <a:off x="6318360" y="0"/>
            <a:ext cx="5203800" cy="6195960"/>
          </a:xfrm>
          <a:prstGeom prst="rect">
            <a:avLst/>
          </a:prstGeom>
          <a:ln w="0">
            <a:noFill/>
          </a:ln>
        </p:spPr>
      </p:pic>
      <p:sp>
        <p:nvSpPr>
          <p:cNvPr id="74" name="WordArt 10"/>
          <p:cNvSpPr txBox="1"/>
          <p:nvPr/>
        </p:nvSpPr>
        <p:spPr>
          <a:xfrm>
            <a:off x="295200" y="6653160"/>
            <a:ext cx="1005840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1270625012_ac655000381c505f16e80408ef0d0b82"/>
          <p:cNvPicPr/>
          <p:nvPr/>
        </p:nvPicPr>
        <p:blipFill>
          <a:blip r:embed="rId1"/>
          <a:stretch/>
        </p:blipFill>
        <p:spPr>
          <a:xfrm>
            <a:off x="371520" y="174600"/>
            <a:ext cx="10134720" cy="118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228_large"/>
          <p:cNvPicPr/>
          <p:nvPr/>
        </p:nvPicPr>
        <p:blipFill>
          <a:blip r:embed="rId1"/>
          <a:stretch/>
        </p:blipFill>
        <p:spPr>
          <a:xfrm>
            <a:off x="371520" y="328680"/>
            <a:ext cx="277488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63_4"/>
          <p:cNvPicPr/>
          <p:nvPr/>
        </p:nvPicPr>
        <p:blipFill>
          <a:blip r:embed="rId2"/>
          <a:stretch/>
        </p:blipFill>
        <p:spPr>
          <a:xfrm>
            <a:off x="295200" y="8558280"/>
            <a:ext cx="3702240" cy="339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3_21"/>
          <p:cNvPicPr/>
          <p:nvPr/>
        </p:nvPicPr>
        <p:blipFill>
          <a:blip r:embed="rId3"/>
          <a:stretch/>
        </p:blipFill>
        <p:spPr>
          <a:xfrm>
            <a:off x="3724200" y="404640"/>
            <a:ext cx="3548160" cy="3733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raphic001"/>
          <p:cNvPicPr/>
          <p:nvPr/>
        </p:nvPicPr>
        <p:blipFill>
          <a:blip r:embed="rId4"/>
          <a:stretch/>
        </p:blipFill>
        <p:spPr>
          <a:xfrm>
            <a:off x="447840" y="4138560"/>
            <a:ext cx="2543040" cy="3505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ACCUEIL"/>
          <p:cNvPicPr/>
          <p:nvPr/>
        </p:nvPicPr>
        <p:blipFill>
          <a:blip r:embed="rId5"/>
          <a:stretch/>
        </p:blipFill>
        <p:spPr>
          <a:xfrm>
            <a:off x="3191040" y="4290840"/>
            <a:ext cx="3497040" cy="312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raffic-sign-6711_640"/>
          <p:cNvPicPr/>
          <p:nvPr/>
        </p:nvPicPr>
        <p:blipFill>
          <a:blip r:embed="rId6"/>
          <a:stretch/>
        </p:blipFill>
        <p:spPr>
          <a:xfrm>
            <a:off x="6772320" y="4824360"/>
            <a:ext cx="2584440" cy="334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512px-1"/>
          <p:cNvPicPr/>
          <p:nvPr/>
        </p:nvPicPr>
        <p:blipFill>
          <a:blip r:embed="rId7"/>
          <a:stretch/>
        </p:blipFill>
        <p:spPr>
          <a:xfrm>
            <a:off x="6703920" y="8101080"/>
            <a:ext cx="4097520" cy="373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2" descr="49_4"/>
          <p:cNvPicPr/>
          <p:nvPr/>
        </p:nvPicPr>
        <p:blipFill>
          <a:blip r:embed="rId8"/>
          <a:stretch/>
        </p:blipFill>
        <p:spPr>
          <a:xfrm>
            <a:off x="4181400" y="8101080"/>
            <a:ext cx="2600280" cy="380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1256661499_1"/>
          <p:cNvPicPr/>
          <p:nvPr/>
        </p:nvPicPr>
        <p:blipFill>
          <a:blip r:embed="rId9"/>
          <a:stretch/>
        </p:blipFill>
        <p:spPr>
          <a:xfrm>
            <a:off x="7610400" y="480960"/>
            <a:ext cx="273852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23"/>
          <p:cNvPicPr/>
          <p:nvPr/>
        </p:nvPicPr>
        <p:blipFill>
          <a:blip r:embed="rId1"/>
          <a:srcRect l="7536" t="28898" r="4677" b="16378"/>
          <a:stretch/>
        </p:blipFill>
        <p:spPr>
          <a:xfrm>
            <a:off x="447840" y="6195960"/>
            <a:ext cx="9931320" cy="5181480"/>
          </a:xfrm>
          <a:prstGeom prst="rect">
            <a:avLst/>
          </a:prstGeom>
          <a:ln w="0">
            <a:noFill/>
          </a:ln>
        </p:spPr>
      </p:pic>
      <p:sp>
        <p:nvSpPr>
          <p:cNvPr id="57" name="WordArt 10"/>
          <p:cNvSpPr txBox="1"/>
          <p:nvPr/>
        </p:nvSpPr>
        <p:spPr>
          <a:xfrm>
            <a:off x="447840" y="633240"/>
            <a:ext cx="7238880" cy="380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етофор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rcRect l="0" t="0" r="49004" b="14987"/>
          <a:stretch/>
        </p:blipFill>
        <p:spPr>
          <a:xfrm>
            <a:off x="0" y="0"/>
            <a:ext cx="10801440" cy="122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949040" cy="122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svetofor_3"/>
          <p:cNvPicPr/>
          <p:nvPr/>
        </p:nvPicPr>
        <p:blipFill>
          <a:blip r:embed="rId1"/>
          <a:srcRect l="0" t="0" r="28456" b="0"/>
          <a:stretch/>
        </p:blipFill>
        <p:spPr>
          <a:xfrm>
            <a:off x="1057320" y="328680"/>
            <a:ext cx="9144000" cy="116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svetoforov_v_kemerove_stalo_bolshe"/>
          <p:cNvPicPr/>
          <p:nvPr/>
        </p:nvPicPr>
        <p:blipFill>
          <a:blip r:embed="rId1"/>
          <a:srcRect l="10118" t="806" r="21417" b="-796"/>
          <a:stretch/>
        </p:blipFill>
        <p:spPr>
          <a:xfrm>
            <a:off x="2048040" y="480960"/>
            <a:ext cx="8108640" cy="113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ED_v_Svetoforax"/>
          <p:cNvPicPr/>
          <p:nvPr/>
        </p:nvPicPr>
        <p:blipFill>
          <a:blip r:embed="rId1"/>
          <a:srcRect l="8663" t="581" r="18903" b="-572"/>
          <a:stretch/>
        </p:blipFill>
        <p:spPr>
          <a:xfrm>
            <a:off x="1438200" y="633240"/>
            <a:ext cx="8839440" cy="111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икарпова Е.Е.</dc:creator>
  <dc:description/>
  <dc:language>en-US</dc:language>
  <cp:lastModifiedBy>HUAWEI</cp:lastModifiedBy>
  <dcterms:modified xsi:type="dcterms:W3CDTF">2022-04-20T03:55:30Z</dcterms:modified>
  <cp:revision>41</cp:revision>
  <dc:subject/>
  <dc:title>Светофор</dc:title>
</cp:coreProperties>
</file>